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B7B-931D-4D91-B21A-BBD84325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F90-4A68-4B2F-BDFF-8B9A037C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87B-48DD-443E-9B19-05D43417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1130-CDBA-406F-B0BA-9A138106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0174-BB15-4374-9DD7-E7A0235E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A6A5-5DB7-4B95-86BE-103BBB76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EAFE-8285-4AC0-95CF-51580FCB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38B8-938B-4972-B56A-CCFED03C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A4CB-0DDE-42C5-A01C-3EBB7AF0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04B5-0C74-44F1-96D3-9AE7DAD8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00C0-CBF6-4F35-84E4-72880624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272-D89A-4EA9-9B8F-C90FAF74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3163-19B3-4BD5-BF52-EC30B1AE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0D72-1B5B-43C7-9745-47C6A2AC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6FEA-38A8-46E9-92A7-8FFB8E62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A16F-5E3B-44C5-86AA-B494AFC4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ABB0-870E-4355-92F3-90300F22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8D8-56E2-4130-BB17-F095756C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348-32D4-4552-B123-2389ED8E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1623-75B4-4731-B0FE-32BC4CE6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4FA-DBB5-4B51-851E-E5CFDB8C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BE1-A849-4AF6-B742-0C5B2B2D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DA1-1585-4B87-B260-E92EF92B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6091-02B2-426C-B1E4-B9FF0591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E20B-20DE-4F1D-82F3-42711D3B5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9668-3E5A-4333-9184-8DE475C0D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raktat.com/language/book/synt/prost_01/vv_ko.php" TargetMode="External"/><Relationship Id="rId2" Type="http://schemas.openxmlformats.org/officeDocument/2006/relationships/hyperlink" Target="http://www.traktat.com/language/book/synt/prost_01/vv_ko.php" TargetMode="External"/><Relationship Id="rId3" Type="http://schemas.openxmlformats.org/officeDocument/2006/relationships/hyperlink" Target="http://www.traktat.com/language/book/synt/prost_01/vv_ko.php" TargetMode="External"/><Relationship Id="rId4" Type="http://schemas.openxmlformats.org/officeDocument/2006/relationships/hyperlink" Target="http://www.traktat.com/language/book/synt/prost_01/vv_ko.php" TargetMode="External"/><Relationship Id="rId5" Type="http://schemas.openxmlformats.org/officeDocument/2006/relationships/hyperlink" Target="http://www.traktat.com/language/book/synt/prost_01/vv_ko.php" TargetMode="External"/><Relationship Id="rId6" Type="http://schemas.openxmlformats.org/officeDocument/2006/relationships/hyperlink" Target="http://www.traktat.com/language/book/synt/prost_01/vv_ko.php" TargetMode="External"/><Relationship Id="rId7" Type="http://schemas.openxmlformats.org/officeDocument/2006/relationships/hyperlink" Target="http://www.traktat.com/language/book/synt/prost_01/vv_ko.php" TargetMode="External"/><Relationship Id="rId8" Type="http://schemas.openxmlformats.org/officeDocument/2006/relationships/hyperlink" Target="http://www.traktat.com/language/book/synt/prost_01/vv_ko.php" TargetMode="External"/><Relationship Id="rId9" Type="http://schemas.openxmlformats.org/officeDocument/2006/relationships/hyperlink" Target="http://www.traktat.com/language/book/synt/prost_01/vv_ko.php" TargetMode="External"/><Relationship Id="rId10" Type="http://schemas.openxmlformats.org/officeDocument/2006/relationships/hyperlink" Target="http://www.traktat.com/language/book/synt/prost_01/vv_ko.php" TargetMode="External"/><Relationship Id="rId11" Type="http://schemas.openxmlformats.org/officeDocument/2006/relationships/hyperlink" Target="http://www.traktat.com/language/book/synt/prost_01/vv_ko.php" TargetMode="External"/><Relationship Id="rId12" Type="http://schemas.openxmlformats.org/officeDocument/2006/relationships/hyperlink" Target="http://www.prosv.ru/ebooks/nikolina_russkii_8/14.htm" TargetMode="External"/><Relationship Id="rId13" Type="http://schemas.openxmlformats.org/officeDocument/2006/relationships/hyperlink" Target="http://www.prosv.ru/ebooks/nikolina_russkii_8/14.htm" TargetMode="External"/><Relationship Id="rId14" Type="http://schemas.openxmlformats.org/officeDocument/2006/relationships/hyperlink" Target="http://www.prosv.ru/ebooks/nikolina_russkii_8/14.htm" TargetMode="External"/><Relationship Id="rId15" Type="http://schemas.openxmlformats.org/officeDocument/2006/relationships/hyperlink" Target="http://www.prosv.ru/ebooks/nikolina_russkii_8/14.htm" TargetMode="External"/><Relationship Id="rId16" Type="http://schemas.openxmlformats.org/officeDocument/2006/relationships/hyperlink" Target="http://www.prosv.ru/ebooks/nikolina_russkii_8/14.htm" TargetMode="External"/><Relationship Id="rId17" Type="http://schemas.openxmlformats.org/officeDocument/2006/relationships/hyperlink" Target="http://www.prosv.ru/ebooks/nikolina_russkii_8/14.htm" TargetMode="External"/><Relationship Id="rId18" Type="http://schemas.openxmlformats.org/officeDocument/2006/relationships/hyperlink" Target="http://www.hi-edu.ru/e-books/xbook089/01/index.html?part-035.htm" TargetMode="External"/><Relationship Id="rId19" Type="http://schemas.openxmlformats.org/officeDocument/2006/relationships/hyperlink" Target="http://www.hi-edu.ru/e-books/xbook089/01/index.html?part-035.htm" TargetMode="External"/><Relationship Id="rId20" Type="http://schemas.openxmlformats.org/officeDocument/2006/relationships/hyperlink" Target="http://www.hi-edu.ru/e-books/xbook089/01/index.html?part-035.htm" TargetMode="External"/><Relationship Id="rId21" Type="http://schemas.openxmlformats.org/officeDocument/2006/relationships/hyperlink" Target="http://www.hi-edu.ru/e-books/xbook089/01/index.html?part-035.htm" TargetMode="External"/><Relationship Id="rId22" Type="http://schemas.openxmlformats.org/officeDocument/2006/relationships/hyperlink" Target="http://www.hi-edu.ru/e-books/xbook089/01/index.html?part-035.htm" TargetMode="External"/><Relationship Id="rId23" Type="http://schemas.openxmlformats.org/officeDocument/2006/relationships/hyperlink" Target="http://www.hi-edu.ru/e-books/xbook089/01/index.html?part-035.htm" TargetMode="External"/><Relationship Id="rId2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«Предложения с вводными конструкциями»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666520" y="38862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 студентка 4 курса КГПИ филологического факультета Машанова К.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нформационные ресурс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www.traktat.com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language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book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synt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/prost_01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vv_ko.ph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www.prosv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ebooks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/nikolina_russkii_8/14.ht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www.hi-edu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e-books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/xbook089/01/index.html?part-035.ht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Основополагающий  вопрос нашего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ак можно сделать речь выразительне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2610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, ответы на которые мы будем искать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такое вводная конструкц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обособляются вводные конструкции на письм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бывают группы вводных слов по значени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идактическая цель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ние у учащихся знаний о вводных конструкц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352680" y="4038480"/>
            <a:ext cx="208620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етодические задач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 учащихся с вводными конструкци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чить учащихся находить в тексте вводные конструкции и правильно обособлять их знаками препи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 с группами вводных слов по знач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едставление результатов исследования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хематическое изображение прави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оссвор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ихотвор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ису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ворческая презентац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пределение по группам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1905120"/>
          <a:ext cx="8007480" cy="3047760"/>
        </p:xfrm>
        <a:graphic>
          <a:graphicData uri="http://schemas.openxmlformats.org/drawingml/2006/table">
            <a:tbl>
              <a:tblPr/>
              <a:tblGrid>
                <a:gridCol w="914400"/>
                <a:gridCol w="4424400"/>
                <a:gridCol w="2668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изу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ники групп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ложения с вводными конструкция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и препинания в предложениях с вводными конструкция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ы вводных слов по значению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должительность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ект рассчитан на 3 учебных часа. Всего 3 ур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апы проведения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бор и формулировка 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иск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формление про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щита про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21T05:26:50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